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01388"/>
        <c:axId val="78806959"/>
      </c:barChart>
      <c:catAx>
        <c:axId val="92001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06959"/>
        <c:crosses val="autoZero"/>
        <c:auto val="1"/>
        <c:lblAlgn val="ctr"/>
        <c:lblOffset val="100"/>
        <c:noMultiLvlLbl val="0"/>
      </c:catAx>
      <c:valAx>
        <c:axId val="78806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01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B06-F52A-402E-A869-6C30FC6F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57C-C8E6-4CEA-BBF3-C31E0225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4D0-AC80-438D-8925-0338F34D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A35-C60A-405B-A851-4FBF13F3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C52-9363-4CAB-8144-7C1D3377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877-9940-47C8-9505-1BB2527C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1AB-DA13-4864-86C4-2939DF5C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1F0-363F-45AE-895A-DA501F52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7DE-7136-4C53-8A1D-B63FDB54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631-17EE-4918-9844-3BE4074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BF9-65CB-4D2F-A4E9-15BEFF3D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DFE-89AB-48A7-B602-B7DC1EC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86C82-65D5-41FC-BCE9-4A90E80D94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